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0B79-8A71-4D4E-B915-965CD511F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49AF-5E2D-4003-8BDD-C0A1B577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3534-0B34-493A-A645-2A57DEB0D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CCBC-C04C-4CB4-A2F6-CA8C66859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BD8C-E04C-4B63-8472-6B91506C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60C7-9088-44F8-AA6C-711936A5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E1F5-31BA-4E3C-8B7E-D4652FD1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3E5D-8991-492D-BBE3-CE13D464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FB2E-1CE4-4BC0-BC3A-915F684F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BAC0-554C-4FB4-885C-690EFCF7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676B-5ED3-4D46-868E-F799A0EC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1A7A-7872-4E0F-BBC5-9D163CCE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88CB-76CB-481A-A88E-B23C7A114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7T15:38:04Z</dcterms:created>
  <dc:creator>***</dc:creator>
  <dc:description/>
  <dc:language>en-US</dc:language>
  <cp:lastModifiedBy>***</cp:lastModifiedBy>
  <dcterms:modified xsi:type="dcterms:W3CDTF">2005-10-28T09:19:05Z</dcterms:modified>
  <cp:revision>5</cp:revision>
  <dc:subject/>
  <dc:title>Diapositiva 1</dc:title>
</cp:coreProperties>
</file>