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F71-92E5-4121-8A1D-C0075CA9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E8F-BFB7-420B-824E-145824AE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D38-8849-462E-B36A-501962C0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CE8-8E6E-4A5E-9D6D-D91F9B75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3E5-86C7-4AAA-9380-7CAB9634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00F-8D2F-4C65-90E2-83CE669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A60-D1D5-4BB1-BCF8-0517152A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95F-1D7E-4FF8-BB9D-180B077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3AA-BC31-42EB-AE04-E32223A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A42-B0BD-4234-8569-26616BD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DCF-C798-4F21-9998-ED594C8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6CF-BB82-4C52-87B3-82C0004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BC8-B85F-434A-918E-F35F2886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7:09:07Z</dcterms:modified>
  <cp:revision>3</cp:revision>
  <dc:subject/>
  <dc:title>Diapositiva 1</dc:title>
</cp:coreProperties>
</file>