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C1C-2330-4674-B7A5-BDB0D15B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693-09E8-4981-BB0B-62819D22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110-C91D-4994-9449-873B7F70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525-9559-4FBA-886A-FD9A31CF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0C6-29C0-4F0D-A911-064F1B8D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4B2-DE7A-4B25-ABF8-6A442200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26F-7F5A-4001-9D66-FA8D20BE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728-3574-4509-B9D8-04D745FD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AB8-A890-465E-835A-1D44D91C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5AC-3BD0-4EEB-AC2E-1687DF4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A0B-8A33-4240-80F9-418A438B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88E-2099-4922-8522-634B0EC7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C85F-4DCB-4E9A-B6DD-C9AA42BC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38:04Z</dcterms:created>
  <dc:creator>***</dc:creator>
  <dc:description/>
  <dc:language>en-US</dc:language>
  <cp:lastModifiedBy>***</cp:lastModifiedBy>
  <dcterms:modified xsi:type="dcterms:W3CDTF">2005-10-27T16:40:57Z</dcterms:modified>
  <cp:revision>5</cp:revision>
  <dc:subject/>
  <dc:title>Diapositiva 1</dc:title>
</cp:coreProperties>
</file>